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4182-B945-4F0F-834C-327539300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E86B-EBC6-4492-98E4-3F7BC9D8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F9A1-30F0-4D7B-9E4E-FA1E05668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C210-FCBD-43C5-BB8D-49B6FF534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BC1F-0E1C-4DBB-8B64-4F6C2A3F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23E7-078E-467C-BD4E-853F5DA5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5241-79F9-4BB9-A3BE-E2E695D1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671A-F6F0-4263-9999-0A57B3D5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234C-31E4-422F-8E09-2E904C82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779F-4E13-4EBF-BF70-04AF50A9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7D4C-74D2-4EB0-A8B8-FCB4DC02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2D01-2C5D-46FD-9D63-8D994ED3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1A1570-05A3-4714-994F-4DD1B4D70B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D3DB9E-4DA9-4C69-AC56-33A91333A0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5056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llr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86920" y="1792440"/>
            <a:ext cx="784548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What was the supercontinent that existed 250 million years ago called?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A. Faul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B. Continentu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. Olympu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D. Pangaea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000" y="2298600"/>
            <a:ext cx="8658000" cy="26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700" spc="-1" strike="noStrike" u="sng">
                <a:solidFill>
                  <a:srgbClr val="000000"/>
                </a:solidFill>
                <a:uFillTx/>
                <a:latin typeface="Calibri"/>
              </a:rPr>
              <a:t>4.2 The Effects of Plate Boundaries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9520" y="27432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660066"/>
                </a:solidFill>
                <a:latin typeface="Calibri"/>
              </a:rPr>
              <a:t>Transform boundary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09520" y="173196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Calibri"/>
              </a:rPr>
              <a:t>A transform boundary causes earthquakes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809880" cy="3505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2"/>
          <a:stretch/>
        </p:blipFill>
        <p:spPr>
          <a:xfrm>
            <a:off x="0" y="3429000"/>
            <a:ext cx="3498840" cy="342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3"/>
          <a:stretch/>
        </p:blipFill>
        <p:spPr>
          <a:xfrm>
            <a:off x="1517760" y="2857680"/>
            <a:ext cx="2665440" cy="17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vergent bound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30040" y="19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900" spc="-1" strike="noStrike" u="sng">
                <a:solidFill>
                  <a:srgbClr val="000000"/>
                </a:solidFill>
                <a:uFillTx/>
                <a:latin typeface="Calibri"/>
              </a:rPr>
              <a:t>A divergent boundary causes earthquakes, volcanic activity, seafloor spreading, and rift valleys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300" spc="-1" strike="noStrike" u="sng">
                <a:solidFill>
                  <a:srgbClr val="000000"/>
                </a:solidFill>
                <a:uFillTx/>
                <a:latin typeface="Calibri"/>
              </a:rPr>
              <a:t>Seafloor spreading creates mid-ocean ridges.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5873760" y="0"/>
            <a:ext cx="281304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vergent bound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2031840" y="4317840"/>
            <a:ext cx="7112160" cy="254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457200" y="2238480"/>
            <a:ext cx="440208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700" spc="-1" strike="noStrike">
                <a:solidFill>
                  <a:srgbClr val="660066"/>
                </a:solidFill>
                <a:latin typeface="Calibri"/>
              </a:rPr>
              <a:t>Convergent Boundary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2240" y="1760040"/>
            <a:ext cx="86742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3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5200" spc="-1" strike="noStrike" u="sng">
                <a:solidFill>
                  <a:srgbClr val="000000"/>
                </a:solidFill>
                <a:uFillTx/>
                <a:latin typeface="Calibri"/>
              </a:rPr>
              <a:t>A convergent boundary causes earthquakes, plate collision, and subduction.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Calibri"/>
              </a:rPr>
              <a:t>Subduction is when a plate slides under another plate. Subduction creates oceanic trenches, volcanoes, and island arcs.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te Coll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500" spc="-1" strike="noStrike" u="sng">
                <a:solidFill>
                  <a:srgbClr val="000000"/>
                </a:solidFill>
                <a:uFillTx/>
                <a:latin typeface="Calibri"/>
              </a:rPr>
              <a:t>Plate collision is when two plates hit each other creating a mountain range.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1" descr=""/>
          <p:cNvPicPr/>
          <p:nvPr/>
        </p:nvPicPr>
        <p:blipFill>
          <a:blip r:embed="rId1"/>
          <a:stretch/>
        </p:blipFill>
        <p:spPr>
          <a:xfrm>
            <a:off x="227160" y="69840"/>
            <a:ext cx="4263840" cy="2793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2" descr=""/>
          <p:cNvPicPr/>
          <p:nvPr/>
        </p:nvPicPr>
        <p:blipFill>
          <a:blip r:embed="rId2"/>
          <a:stretch/>
        </p:blipFill>
        <p:spPr>
          <a:xfrm>
            <a:off x="4260960" y="2863800"/>
            <a:ext cx="4836960" cy="1951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5" descr=""/>
          <p:cNvPicPr/>
          <p:nvPr/>
        </p:nvPicPr>
        <p:blipFill>
          <a:blip r:embed="rId3"/>
          <a:stretch/>
        </p:blipFill>
        <p:spPr>
          <a:xfrm>
            <a:off x="87480" y="5052960"/>
            <a:ext cx="552132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Which types of plate boundaries cause volcanoe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What is the effect of a plate collision? 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Anticipatory 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Input (notes on effec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Guided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Independent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 Clo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What is subduction?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Calibri"/>
              </a:rPr>
              <a:t>What are the effects of subduction?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e effect of a divergent boundary 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tren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mountain ran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 island cha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afloor spread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rift valley would be evidence of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nsform plate mov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vergent plate mov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b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vergent plate mov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ppalachian Mountain Range is located in the Southeastern United States.  It was created by a plate collision where two plates hit each other.  What type of plate interaction created the Appalachia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gent pl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vergent pl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verse pl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leutian Islands lie on a convergent boundary between the North American and Pacific plates.  What process associated with convergent boundaries probably created this island chai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te coll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floor sprea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thquak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4.2 Effects of Plate Boundaries Independent Practi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After today you will be able to identify the effects of transform, convergent, and divergent boundaries. 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0" y="236520"/>
            <a:ext cx="9144000" cy="63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plate-tectonics.jpg"/>
          <p:cNvPicPr/>
          <p:nvPr/>
        </p:nvPicPr>
        <p:blipFill>
          <a:blip r:embed="rId1"/>
          <a:stretch/>
        </p:blipFill>
        <p:spPr>
          <a:xfrm>
            <a:off x="190440" y="284040"/>
            <a:ext cx="8875800" cy="605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What type of boundary is this?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rcRect l="0" t="0" r="0" b="12535"/>
          <a:stretch/>
        </p:blipFill>
        <p:spPr>
          <a:xfrm>
            <a:off x="2889360" y="2633760"/>
            <a:ext cx="556884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What type of boundary is this?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rcRect l="0" t="0" r="0" b="13407"/>
          <a:stretch/>
        </p:blipFill>
        <p:spPr>
          <a:xfrm>
            <a:off x="3195720" y="2914560"/>
            <a:ext cx="5491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What type of boundary is this?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rcRect l="0" t="0" r="0" b="34283"/>
          <a:stretch/>
        </p:blipFill>
        <p:spPr>
          <a:xfrm>
            <a:off x="4222800" y="3429000"/>
            <a:ext cx="446400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What causes plates to move?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13:02:01Z</dcterms:created>
  <dc:creator>Caroline Roth</dc:creator>
  <dc:description/>
  <dc:language>en-US</dc:language>
  <cp:lastModifiedBy>Caroline Roth</cp:lastModifiedBy>
  <dcterms:modified xsi:type="dcterms:W3CDTF">2011-05-24T02:19:06Z</dcterms:modified>
  <cp:revision>10</cp:revision>
  <dc:subject/>
  <dc:title>Slide 1</dc:title>
</cp:coreProperties>
</file>